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wind.wav" ContentType="audio/x-wav"/>
  <Override PartName="/ppt/media/image16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3.wmf" ContentType="image/x-wmf"/>
  <Override PartName="/ppt/media/image7.jpeg" ContentType="image/jpeg"/>
  <Override PartName="/ppt/media/image6.png" ContentType="image/png"/>
  <Override PartName="/ppt/media/wind%20force.wav" ContentType="audio/x-wav"/>
  <Override PartName="/ppt/media/push.wav" ContentType="audio/x-wav"/>
  <Override PartName="/ppt/media/image17.png" ContentType="image/png"/>
  <Override PartName="/ppt/media/image15.wmf" ContentType="image/x-wmf"/>
  <Override PartName="/ppt/media/image14.jpeg" ContentType="image/jpeg"/>
  <Override PartName="/ppt/media/wind%20spooky.wav" ContentType="audio/x-wav"/>
  <Override PartName="/ppt/media/moo02.wav" ContentType="audio/x-wav"/>
  <Override PartName="/ppt/media/image9.jpeg" ContentType="image/jpeg"/>
  <Override PartName="/ppt/media/image4.jpeg" ContentType="image/jpeg"/>
  <Override PartName="/ppt/media/image2.png" ContentType="image/png"/>
  <Override PartName="/ppt/media/image12.jpeg" ContentType="image/jpeg"/>
  <Override PartName="/ppt/media/scream%20man.wav" ContentType="audio/x-wav"/>
  <Override PartName="/ppt/media/wind%20strong.wav" ContentType="audio/x-wav"/>
  <Override PartName="/ppt/media/image1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1AA-9E69-44B3-B911-5B4A4798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D72-CEC1-44A1-AEDF-907D1EE8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AEF-2DCF-43C2-9CDA-7C40D95A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8D4-2FB8-42A0-9AEE-8026E649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3B5C-8EA1-45EB-8066-7D315169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56FF-7793-40C4-A5A3-EC788707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BCFD-2A98-4A3F-B531-9163F52E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DF3C-C671-4998-B079-9C7EF4C1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A3A3-0173-4C8A-AF18-72FD9724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32CD-15BA-409B-87F0-FA2836F7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7FF0-1FC2-4631-A8B7-421ED5F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6C8-2B7E-48C6-B7D3-04180D16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AA61-387F-45C8-9C41-396F2EFA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A777-06B8-41B4-95AC-DEB3BE6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F106-9611-437D-A788-CF15FABE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57AC-9180-40A5-9AA3-376304A6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D25A-B8B9-408D-8AD8-FBF157ED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F5A-6154-4CEF-9D60-6251D27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D7B-1798-446A-BFCF-784E558B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CD6-B7F2-4C72-9DAB-9B9ACFDD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6E4-B979-4E0E-8D90-4888E1C7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649-A7FE-4BEA-A523-6DE79E7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9F9-445A-4B73-B43C-10E3BAF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1A3-B78A-4492-852D-ACCE159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5F20-0EC2-4500-9AC4-691D36BED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B795-5874-4175-B7F8-F8D65166CC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ush.wav"/><Relationship Id="rId3" Type="http://schemas.openxmlformats.org/officeDocument/2006/relationships/audio" Target="../media/wind%20spooky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audio" Target="../media/wind%20forc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audio" Target="../media/pu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wind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audio" Target="../media/push.wav"/><Relationship Id="rId4" Type="http://schemas.openxmlformats.org/officeDocument/2006/relationships/audio" Target="../media/wind%20strong.wav"/><Relationship Id="rId5" Type="http://schemas.openxmlformats.org/officeDocument/2006/relationships/audio" Target="../media/wind%20force.wav"/><Relationship Id="rId6" Type="http://schemas.openxmlformats.org/officeDocument/2006/relationships/audio" Target="../media/scream%20man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../media/push.wav"/><Relationship Id="rId4" Type="http://schemas.openxmlformats.org/officeDocument/2006/relationships/audio" Target="../media/wind%20force.wav"/><Relationship Id="rId5" Type="http://schemas.openxmlformats.org/officeDocument/2006/relationships/audio" Target="../media/moo02.wav"/><Relationship Id="rId6" Type="http://schemas.openxmlformats.org/officeDocument/2006/relationships/audio" Target="../media/wind%20forc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audio" Target="../media/push.wav"/><Relationship Id="rId4" Type="http://schemas.openxmlformats.org/officeDocument/2006/relationships/audio" Target="../media/wind%20strong.wav"/><Relationship Id="rId5" Type="http://schemas.openxmlformats.org/officeDocument/2006/relationships/audio" Target="../media/wind%20force.wav"/><Relationship Id="rId6" Type="http://schemas.openxmlformats.org/officeDocument/2006/relationships/audio" Target="../media/wind%20strong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push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push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w Di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ught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, and Dust Storms Compound Depression Era Problems for Far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news headlines"/>
          <p:cNvPicPr/>
          <p:nvPr/>
        </p:nvPicPr>
        <p:blipFill>
          <a:blip r:embed="rId1"/>
          <a:srcRect l="10465" t="16012" r="8138" b="11940"/>
          <a:stretch/>
        </p:blipFill>
        <p:spPr>
          <a:xfrm>
            <a:off x="380880" y="1316160"/>
            <a:ext cx="8382240" cy="53895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4"/>
          <p:cNvSpPr txBox="1"/>
          <p:nvPr/>
        </p:nvSpPr>
        <p:spPr>
          <a:xfrm rot="21281400">
            <a:off x="380880" y="2286000"/>
            <a:ext cx="79138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18000"/>
                </a:gradFill>
                <a:latin typeface="Impact"/>
              </a:rPr>
              <a:t>THE DUST BOW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18000"/>
              </a:gradFill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2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%20spook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ere was the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US_Outine_Map"/>
          <p:cNvPicPr/>
          <p:nvPr/>
        </p:nvPicPr>
        <p:blipFill>
          <a:blip r:embed="rId1"/>
          <a:stretch/>
        </p:blipFill>
        <p:spPr>
          <a:xfrm>
            <a:off x="969840" y="1905120"/>
            <a:ext cx="7205760" cy="4530600"/>
          </a:xfrm>
          <a:prstGeom prst="rect">
            <a:avLst/>
          </a:prstGeom>
          <a:ln w="0">
            <a:noFill/>
          </a:ln>
        </p:spPr>
      </p:pic>
      <p:sp>
        <p:nvSpPr>
          <p:cNvPr id="167" name="Oval 4"/>
          <p:cNvSpPr/>
          <p:nvPr/>
        </p:nvSpPr>
        <p:spPr>
          <a:xfrm rot="20586600">
            <a:off x="3200400" y="2514240"/>
            <a:ext cx="1523880" cy="2895480"/>
          </a:xfrm>
          <a:prstGeom prst="ellipse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3581280" y="4038480"/>
            <a:ext cx="762120" cy="762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push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%20for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caused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disast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724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vere drought (no r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vergrazing by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ver plowing by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igh wi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ese conditions destroyed the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gra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held the soil in pl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storms were called “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Black Blizzar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eat Pl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me known a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st Bow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07[1]"/>
          <p:cNvPicPr/>
          <p:nvPr/>
        </p:nvPicPr>
        <p:blipFill>
          <a:blip r:embed="rId5"/>
          <a:stretch/>
        </p:blipFill>
        <p:spPr>
          <a:xfrm>
            <a:off x="5638680" y="1600200"/>
            <a:ext cx="2667240" cy="1600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05[1]"/>
          <p:cNvPicPr/>
          <p:nvPr/>
        </p:nvPicPr>
        <p:blipFill>
          <a:blip r:embed="rId6"/>
          <a:stretch/>
        </p:blipFill>
        <p:spPr>
          <a:xfrm>
            <a:off x="5562720" y="4191120"/>
            <a:ext cx="2971800" cy="178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04[1]"/>
          <p:cNvPicPr/>
          <p:nvPr/>
        </p:nvPicPr>
        <p:blipFill>
          <a:blip r:embed="rId7"/>
          <a:stretch/>
        </p:blipFill>
        <p:spPr>
          <a:xfrm>
            <a:off x="5638680" y="2819520"/>
            <a:ext cx="2800440" cy="1679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8" name="push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Oklahoma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dust storm OK 2"/>
          <p:cNvPicPr/>
          <p:nvPr/>
        </p:nvPicPr>
        <p:blipFill>
          <a:blip r:embed="rId1"/>
          <a:srcRect l="4645" t="4805" r="6462" b="5678"/>
          <a:stretch/>
        </p:blipFill>
        <p:spPr>
          <a:xfrm>
            <a:off x="1600200" y="1197000"/>
            <a:ext cx="5943600" cy="566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17656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st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%20force.wav"/>
                                        </p:tgtEl>
                                      </p:cMediaNode>
                                    </p:audio>
                                    <p:animMotion origin="layout" path="M 0.01111 -0.11667 C 0.02952 -0.24329 0.20938 -0.28079 0.41823 -0.19862 C 0.61841 -0.12061 0.78368 0.04027 0.76719 0.16388 C 0.75643 0.27916 0.60139 0.32384 0.41389 0.25023 C 0.24341 0.18217 0.09861 0.0449 0.11094 -0.06158 C 0.12101 -0.15926 0.25087 -0.19862 0.4099 -0.1382 C 0.55643 -0.07987 0.67969 0.03588 0.66806 0.1243 C 0.65851 0.20439 0.55382 0.2412 0.42327 0.18842 C 0.30417 0.14213 0.20313 0.05092 0.21042 -0.02223 C 0.21962 -0.08588 0.29966 -0.11783 0.40209 -0.07686 C 0.49289 -0.0419 0.57396 0.02963 0.56841 0.08541 C 0.56268 0.1331 0.50608 0.15625 0.43039 0.12777 C 0.36754 0.10393 0.30747 0.05648 0.31337 0.01805 C 0.31424 -0.01343 0.34688 -0.03311 0.39375 -0.01667 C 0.4316 -0.000470000000000002 0.46719 0.02338 0.46754 0.04583 C 0.46771 0.05972 0.45834 0.06967 0.43889 0.06713 C 0.42969 0.06504 0.4224 0.06203 0.41424 0.05648 E">
                                      <p:cBhvr>
                                        <p:cTn id="122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cream%20man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25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Texa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dust storm Tx 2"/>
          <p:cNvPicPr/>
          <p:nvPr/>
        </p:nvPicPr>
        <p:blipFill>
          <a:blip r:embed="rId1"/>
          <a:srcRect l="4286" t="4584" r="2855" b="3553"/>
          <a:stretch/>
        </p:blipFill>
        <p:spPr>
          <a:xfrm>
            <a:off x="1028880" y="1371600"/>
            <a:ext cx="7086600" cy="529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5791320" y="2362320"/>
            <a:ext cx="2581200" cy="307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for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02.wav"/>
                                        </p:tgtEl>
                                      </p:cMediaNode>
                                    </p:audio>
                                    <p:animMotion origin="layout" path="M -0.06615 -0.17778 C -0.07431 -0.18426 -0.10295 -0.19051 -0.11285 -0.19051 C -0.17587 -0.19051 -0.2408 -0.09051 -0.2408 0.00949 C -0.2408 -0.04098 -0.27326 -0.09051 -0.30382 -0.09051 C -0.33629 -0.09051 -0.36701 -0.04028 -0.36701 0.00949 C -0.36701 -0.01551 -0.38316 -0.04098 -0.39948 -0.04098 C -0.41563 -0.04098 -0.43195 -0.01621 -0.43195 0.00949 C -0.43195 -0.00348 -0.43993 -0.01551 -0.44809 -0.01551 C -0.45625 -0.01551 -0.46424 -0.00278 -0.46424 0.00949 C -0.46424 0.00301 -0.46858 -0.00348 -0.4724 -0.00348 C -0.47448 -0.00348 -0.48056 0.00301 -0.48056 0.00949 C -0.48056 0.00625 -0.48264 0.00301 -0.48472 0.00301 C -0.48472 0.00208 -0.48906 0.00625 -0.48906 0.00949 C -0.48906 0.00764 -0.48906 0.00625 -0.49115 0.00625 C -0.49115 0.00694 -0.49323 0.00787 -0.49323 0.00949 C -0.49323 0.00856 -0.49323 0.00764 -0.49323 0.00694 C -0.49531 0.00694 -0.49531 0.00787 -0.49531 0.00879 C -0.4974 0.00879 -0.4974 0.00787 -0.4974 0.00694 C -0.49948 0.00694 -0.49948 0.00787 -0.49948 0.00879 E">
                                      <p:cBhvr>
                                        <p:cTn id="15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%20forc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7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cenes from th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ust Bowl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st Storm over Kans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dust storm farmers"/>
          <p:cNvPicPr/>
          <p:nvPr/>
        </p:nvPicPr>
        <p:blipFill>
          <a:blip r:embed="rId1"/>
          <a:srcRect l="4182" t="4237" r="4182" b="5607"/>
          <a:stretch/>
        </p:blipFill>
        <p:spPr>
          <a:xfrm>
            <a:off x="1676520" y="1143000"/>
            <a:ext cx="5790960" cy="5715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6705720" y="2438280"/>
            <a:ext cx="215100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push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%20st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%20force.wav"/>
                                        </p:tgtEl>
                                      </p:cMediaNode>
                                    </p:audio>
                                    <p:animMotion origin="layout" path="M -0.06337 0.17824 C -0.03976 0.09352 -0.04149 0.01319 -0.06563 -0.00787 C -0.08698 -0.02755 -0.13004 0.01111 -0.1658 0.08171 C -0.20104 0.15254 -0.21493 0.22708 -0.1941 0.24583 C -0.16979 0.26713 -0.13247 0.21111 -0.11268 0.12639 C -0.09549 0.04004 -0.09931 -0.03843 -0.12118 -0.0581 C -0.14323 -0.07778 -0.18872 -0.03935 -0.22396 0.02986 C -0.25903 0.10115 -0.27153 0.17615 -0.24913 0.1956 C -0.22743 0.21597 -0.19011 0.15972 -0.17118 0.07546 C -0.15122 -0.00973 -0.15521 -0.0882 -0.17674 -0.1081 C -0.20104 -0.12917 -0.24636 -0.09121 -0.28195 -0.0206 C -0.31667 0.04977 -0.32882 0.12523 -0.30504 0.14676 C -0.28472 0.16504 -0.24774 0.10787 -0.22674 0.02569 C -0.20747 -0.0581 -0.21285 -0.13959 -0.23455 -0.15903 C -0.25677 -0.17894 -0.30209 -0.13959 -0.33698 -0.06968 C -0.37344 0.00254 -0.3849 0.075 -0.3625 0.09537 C -0.34115 0.11412 -0.30434 0.05926 -0.2849 -0.02408 C -0.2658 -0.10834 -0.26875 -0.19005 -0.29045 -0.20903 C -0.31406 -0.23033 -0.35799 -0.18912 -0.39323 -0.11875 C -0.42882 -0.04746 -0.43993 0.02615 -0.41823 0.0456 C -0.39653 0.06481 -0.35955 0.00949 -0.3408 -0.07454 C -0.3217 -0.15857 -0.32639 -0.24074 -0.34618 -0.2588 C -0.36806 -0.27848 -0.41406 -0.23797 -0.44913 -0.16898 C -0.4849 -0.09699 -0.49601 -0.02385 -0.47361 -0.00417 C -0.45434 0.01389 -0.41806 -0.04074 -0.39636 -0.12408 C -0.37726 -0.20787 -0.3816 -0.29121 -0.40382 -0.31042 C -0.42361 -0.32778 -0.47153 -0.28935 -0.50729 -0.21852 C -0.54288 -0.14746 -0.55365 -0.07547 -0.5316 -0.05556 C -0.50972 -0.03611 -0.47379 -0.09098 -0.45452 -0.175 C -0.43507 -0.25857 -0.43698 -0.34121 -0.45938 -0.35973 C -0.48195 -0.37871 -0.52552 -0.33727 -0.56129 -0.26667 C -0.59688 -0.1956 -0.60729 -0.12385 -0.58542 -0.10394 C -0.56528 -0.08588 -0.53073 -0.13797 -0.51372 -0.22431 E">
                                      <p:cBhvr>
                                        <p:cTn id="174" dur="5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%20stron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77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o did the drought hit the hard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4876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grant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farmers from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klaho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kans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aded west to escap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ust Bow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oved to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st coa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find jobs on f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not welcomed by loc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s feared that the migrants would take local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nt workers lived in poor conditions </a:t>
            </a:r>
            <a:r>
              <a:rPr b="0" lang="en-US" sz="2400" spc="-1" strike="noStrike">
                <a:solidFill>
                  <a:srgbClr val="86d1ec"/>
                </a:solidFill>
                <a:latin typeface="Arial"/>
              </a:rPr>
              <a:t>(tents, no water or electric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migrant2[1]"/>
          <p:cNvPicPr/>
          <p:nvPr/>
        </p:nvPicPr>
        <p:blipFill>
          <a:blip r:embed="rId2"/>
          <a:stretch/>
        </p:blipFill>
        <p:spPr>
          <a:xfrm>
            <a:off x="5105520" y="1371600"/>
            <a:ext cx="3200400" cy="246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lan20993[1]"/>
          <p:cNvPicPr/>
          <p:nvPr/>
        </p:nvPicPr>
        <p:blipFill>
          <a:blip r:embed="rId3"/>
          <a:stretch/>
        </p:blipFill>
        <p:spPr>
          <a:xfrm>
            <a:off x="5334120" y="388620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4" name="pu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w did drought, and dust storms compound depression era problems for far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were already struggling through the economic depressi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due to overproduction of cro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rain and the overuse of land made farmers problems wo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forced farmers of the Great Plains to migrate west where they were unwelcome and faced an even harde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were left displaced/homeless as farm land became usel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5" name="push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0:43:23Z</dcterms:created>
  <dc:creator>saccullo</dc:creator>
  <dc:description/>
  <dc:language>en-US</dc:language>
  <cp:lastModifiedBy>Sacerdote, Kevin R.</cp:lastModifiedBy>
  <dcterms:modified xsi:type="dcterms:W3CDTF">2016-01-05T12:59:31Z</dcterms:modified>
  <cp:revision>2</cp:revision>
  <dc:subject/>
  <dc:title>How Did Drought, and Dust Storms Compound Depression Era Problems for Farmers?</dc:title>
</cp:coreProperties>
</file>